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7ADE1DD-741F-4821-BA0A-967BEAF9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ed to graphical misconce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7B4B-65DF-4F49-B001-55F8C7F6A4B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Bullet 4 re use of vertex form: . . .which is demonstrated through students using the same process (algebraic to graphical) regardless of the tas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C741-1425-44F4-A85A-71197FA701E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ullet 2: Say "Quadratic" and the visual of a parabola, a y=x^2 function equation, and the quadratic formula all appear in the student's mind's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10F0-C851-43CC-B00A-21DD345D4F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C44A-29D9-40CB-BD9E-4D587ECF11D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4D20-4ECB-4709-958F-D610FF9149C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884D-AA8C-4618-81D5-815FC71ACAF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45DB-8A49-4ED4-B127-F8263D68890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67A2-AC37-4D22-94AD-6A96E8E384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9550-6A68-48FD-A843-612801D3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B7D2-B9F8-4EA9-97E5-8993F2CD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9128-B48B-4781-BF83-2E66CA1F3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E1EEA-79EA-4A39-BE65-7CEA2789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1AF21-4405-4D9C-BD82-E47F1D8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4BCBA-153C-49D1-9840-551A30D1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5CB8A-1079-47C9-A945-E772C465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7B9D5-8705-45E9-812E-C18DE1C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F183F-D49C-4FE0-B613-73CA524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4D467-D930-40F0-96EA-86AAA49F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575C-BA63-4908-AE91-2FCD2063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BFBCF-2510-4D70-8A9C-498B0E0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38EFA-523D-4597-8DDA-67C8EE17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F71FB-A383-4A53-B3B0-8D7ADF6A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6BA6B-0EC2-42EA-8492-FF60242D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32E78-D5E3-4C24-A129-A4AAEDDD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3160-D8D9-4CE1-9724-2BB84A72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E0DA-85F3-4884-B6DF-BA745653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BE73-028B-482E-BDE5-017772FC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9883-11C0-46BF-94C9-21EC4046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2D82-84E5-4244-B322-12A15817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90180-81DA-4503-BC69-B35ADE65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0DA0-E6F1-405D-95C0-589A9E83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FF5D-444D-4F32-9C5B-56AA24718E3E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1C2A-846F-4715-9482-F144AF95D38B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and Graphical Represent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400" y="2231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fail to connect to properties of class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/power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221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and Algebraic Representations 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4600" y="25984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the use of V(h,k) in the form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different ways of representing quadratic relations (algebraic and graphical) and have never built the bridge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difficulty holding two (or more) different representations/ideas about the same concept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shifts horizontally or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,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 a problem to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algebraic to graphic doesn’t result in the same depth of 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the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2800" y="23065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6T03:32:45Z</dcterms:modified>
  <cp:revision>150</cp:revision>
  <dc:subject/>
  <dc:title>Math GAINS 2008-09</dc:title>
</cp:coreProperties>
</file>